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3EF0-BAEC-4178-8B34-6FC48BF7F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3B0E-D9BB-4C25-AF88-3756388DC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26C8-2E7B-4350-AAD1-6B49CF6FE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06216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89608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22824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06216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89608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C853-AA82-49EF-A12F-1B39B8C9A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B1FAA-00C0-4273-B219-948A86A42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95B06-36A0-44A3-9EBA-27C1EF15F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372BC-6D70-405E-BFF1-6F0B0AC45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815B3-F242-4163-925F-CB958A202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C7060-A67C-458C-8BD3-07739717B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228240" y="38052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B72B6-1B1C-471E-AD15-5AEAAC458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824B3-0637-4311-974F-D349EF169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9784-29E4-4543-A427-47CDAA943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25072-3D64-4FF7-B531-2D0A47CBB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CD0E9-EDFE-4302-A15C-13E6FFD64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C2456-0758-4E9E-A3AC-93E2CF00D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C445F-F5EB-42D6-9597-DECCF59B9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06216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89608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22824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06216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89608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DD928-7811-4DDC-8F56-A2EBA705B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B1E2-6AE1-4DEA-9F7D-C7DB49C31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9B90-0F98-4EE9-9A49-320EE7636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53E7-C15B-45B5-BD60-AB8E2A2AA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228240" y="38052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3FC7-F76A-498A-AABE-639524E1F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D241-4825-4F9A-8C47-26B575F8E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CC11-83BD-4322-8C61-289B166C5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70A2-759A-49A5-BDD6-11133259F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1" name="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maneki" descr="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5" name="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743040" indent="-285840">
              <a:spcBef>
                <a:spcPts val="799"/>
              </a:spcBef>
              <a:buClr>
                <a:srgbClr val="996600"/>
              </a:buClr>
              <a:buSzPct val="75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2" marL="1143000" indent="-228600">
              <a:spcBef>
                <a:spcPts val="799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3" marL="1600200" indent="-228600">
              <a:spcBef>
                <a:spcPts val="7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E9093-174F-4685-B006-3E64B139D3FA}" type="slidenum">
              <a:rPr b="0" lang="ja-JP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53" name="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" name="maneki" descr="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57" name="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ADD3A-B059-4690-B193-62B9D2B02642}" type="slidenum">
              <a:rPr b="0" lang="ja-JP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Microsoft PowerPoint 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テスト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2193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これは </a:t>
            </a: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MS PowerPoint 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ファイルです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1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ページ目タイトル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ページ目本文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2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ページ目タイトル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2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ページ目本文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5T10:41:34Z</dcterms:created>
  <dc:creator>著者</dc:creator>
  <dc:description/>
  <dc:language>en-US</dc:language>
  <cp:lastModifiedBy>NaCl</cp:lastModifiedBy>
  <dcterms:modified xsi:type="dcterms:W3CDTF">2005-07-08T02:25:04Z</dcterms:modified>
  <cp:revision>3</cp:revision>
  <dc:subject/>
  <dc:title>タイトル</dc:title>
</cp:coreProperties>
</file>