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7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18DF52-EE07-4B24-8068-29F4CA6B60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321269-EFB0-4E98-A238-D5B568EC9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100F0F-A6E4-452F-97A8-86E3E9BBD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9E1B8D-3C73-47AA-A488-BCCD6583D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62FA8D-8120-4230-A301-6C4849C45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EAA936-10BD-497E-84C7-BA31234FD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B288BE-4FA8-4B8F-AAB9-746AD1591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B580B0C-B02B-4DB4-A34B-8203A9CBC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7D7E7D-2323-4530-B14A-078FDB6CB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BBCFAB-D142-4592-8262-B2FE774F5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3E6FF2-B6B7-4F4E-90A6-34C3C4407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16DEE2-015A-4C63-81E3-8651C8999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42F13C-8CBB-4C98-8154-ECE3C6F0A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C2757B-4701-4961-8390-DB0BA682C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E2B9AA-54C5-4D05-B391-522C4B2BA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B0A649-FDE8-44B3-90A9-7E6C41773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F3B9C6-D082-4C88-9EF8-B2F1399E3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5E4EE2-CD87-4ABB-8026-3F4188380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A3F6BF-FBE4-4B5E-8212-57E6C44CA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211D12-FC4A-4D27-A1C4-35208FE4B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D34996-E930-4B8F-BE99-25F403B8B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0377F4-B79F-46B8-ADFD-1BB4204EC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79C38CC-EA5F-48CF-B770-8A6BFAF10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24EEF6-EF20-4F82-886E-BC9E3C6B8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C455-8C8C-4F97-A934-B098C3FD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E15-E1CF-4E01-A459-C5476437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1480-7563-4850-8CD7-80C2A31E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D7C-889D-4D7A-B048-CDD7DE67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3F33-1BCC-48F8-9496-4F08E37A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3852-09B8-4AF6-B414-C779EED9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5AC2-75C7-42CC-8E43-3F4A073E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8E09-C9DA-4BE7-B7D1-166F1D06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42BB-D6E3-4E3E-BFF2-E0F29A28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A777-A91D-4A6A-B8F0-2B3EF78D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C26A-F9A7-48F6-AFF2-FC108D3B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8BCA-63C1-492E-8094-45B49954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2161-4087-48F1-8DAB-1F3B7C03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D458-9CDD-4860-9A3A-BC1B68A9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9DA9-02E3-4AD0-B8EA-854D22FD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3922-5CF1-4B34-BE2B-AB863EF7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FE17-4804-4ACB-B8A9-F03603FE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597C0-4E04-4AD3-A33C-5719EE70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B449C-1C6C-4741-8C5A-C83799E7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398EC-5DEC-45DF-89B3-3ABF3991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BD1B2-418B-4BF5-A785-0E709304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A9134-9A34-46D7-BAA4-B5B4B888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468E-3C48-4223-BE07-4758F351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E7030-1BEF-470D-9B33-A1CFF63E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CA4AB-533D-4BE7-8ADC-AB23AACC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6A08D-A163-40C6-841E-BEB24427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462A6-F3C8-4731-9C85-22C6AFA3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0443B-A1C4-4D32-89C4-9868C34F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689FC-969B-4DB5-AC6A-B27754E5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47453-DCCE-42FA-A9FF-8008511E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EFAB8-4039-46F8-A70D-19024C05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5E685-D591-4183-B84F-37B9CA5F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13CF6-E716-4F1B-A2A4-CF17ABA8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C76-0352-43BA-B08B-1C00C2A8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1E6BB-0742-4BD9-97CC-D29DC653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DEDC0-9150-407B-ACA4-BBE3EB1C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9C9EF-2075-4B56-AAD3-1724A29E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E015D-E389-41B0-B734-28438A91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48984-A27D-435C-953F-01EC353C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99D4C-1C77-4548-B33A-5BE34310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7EAA6-BD63-40AD-9C6A-FDE6ADEE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EC22D-73D5-4DF3-A9BB-BA7DE875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82CFE-F9A7-442B-B23A-7322CC5B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90A24-C725-469C-BD6D-C5E8688C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9DEE-A4A9-49AD-AD65-B039A17A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CDDCF-5F24-4079-9CB4-CEB26B74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921E1-0CED-43EC-ACF2-EA9AF752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16AEC-2E4C-4643-AB29-25CFFA66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BD02E-715B-4677-A663-81A18186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FC13C-5E0F-4929-9169-169DA067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D2EFB-FB48-4158-92B1-4C5C0BCD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597AA-1AFB-413D-A2F1-DD317D90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20D55-07BC-4F13-BDD5-5E33671A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A1362-9A0A-433D-9305-A213F0B2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3DAC3-1F13-4B50-A1C9-ACBA9373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C1E-D8F7-4647-BCB8-E1B6B55E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E96E3-C4DC-4B3E-9547-5F7D4937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21A-4994-4734-A26D-6D9A0B99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589-1589-429D-8973-FA632B22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F6A-6FB7-4127-B6AB-5815D43F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7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9040" y="274680"/>
            <a:ext cx="7637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7AD2-755F-4D3D-833B-B0E1DC396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422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ＭＳ Ｐ明朝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ＭＳ Ｐ明朝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700280"/>
            <a:ext cx="64422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2" marL="1097280" indent="-219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3" marL="1536120" indent="-219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4" marL="1974960" indent="-2192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5" marL="1974960" indent="-21924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6" marL="1974960" indent="-2192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A080-F874-40E8-ADE5-67DA1F24A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3389-D927-4911-A5C4-902C4D390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9040" y="274680"/>
            <a:ext cx="7637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18A5-3FF5-4F6E-86C3-08FC7BED2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422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ＭＳ Ｐ明朝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ＭＳ Ｐ明朝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700280"/>
            <a:ext cx="64422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2" marL="1097280" indent="-219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3" marL="1536120" indent="-219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4" marL="1974960" indent="-2192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5" marL="1974960" indent="-21924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  <a:p>
            <a:pPr lvl="6" marL="1974960" indent="-2192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ＭＳ Ｐ明朝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ＭＳ Ｐ明朝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3FA6-D89A-4EFC-913E-999F85FBC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Tutorial of Stigmata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16040" y="2492280"/>
            <a:ext cx="6183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5c1ff"/>
                </a:solidFill>
                <a:latin typeface="Arial"/>
              </a:rPr>
              <a:t>Haruaki Tamada, Ph.D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5c1ff"/>
                </a:solidFill>
                <a:latin typeface="Arial"/>
              </a:rPr>
              <a:t>http://stigmata.sourceforge.jp/tutorial.pdf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5c1ff"/>
                </a:solidFill>
                <a:latin typeface="Arial"/>
              </a:rPr>
              <a:t>Sourceforge.jp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Extract birthmarks from target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1258920" y="1722600"/>
            <a:ext cx="6772320" cy="45147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8"/>
          <p:cNvSpPr/>
          <p:nvPr/>
        </p:nvSpPr>
        <p:spPr>
          <a:xfrm>
            <a:off x="3422520" y="3789360"/>
            <a:ext cx="44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st of extracted birthmarks in new 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Back to ``control’’ pane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1258920" y="1722600"/>
            <a:ext cx="6772320" cy="4514760"/>
          </a:xfrm>
          <a:prstGeom prst="rect">
            <a:avLst/>
          </a:prstGeom>
          <a:ln w="0">
            <a:noFill/>
          </a:ln>
        </p:spPr>
      </p:pic>
      <p:sp>
        <p:nvSpPr>
          <p:cNvPr id="258" name="Oval 5"/>
          <p:cNvSpPr/>
          <p:nvPr/>
        </p:nvSpPr>
        <p:spPr>
          <a:xfrm>
            <a:off x="1116000" y="2060640"/>
            <a:ext cx="91440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356000" y="2708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is tab, then go back to ``control’’ p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8"/>
          <p:cNvCxnSpPr>
            <a:stCxn id="259" idx="0"/>
            <a:endCxn id="258" idx="6"/>
          </p:cNvCxnSpPr>
          <p:nvPr/>
        </p:nvCxnSpPr>
        <p:spPr>
          <a:xfrm flipV="1" rot="16200000">
            <a:off x="3617640" y="672480"/>
            <a:ext cx="467280" cy="360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1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769440" cy="4513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Add target file into Y axi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5148360" y="4437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932360" y="2781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his button and choose target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10"/>
          <p:cNvCxnSpPr>
            <a:stCxn id="264" idx="2"/>
            <a:endCxn id="263" idx="0"/>
          </p:cNvCxnSpPr>
          <p:nvPr/>
        </p:nvCxnSpPr>
        <p:spPr>
          <a:xfrm rot="5400000">
            <a:off x="5365080" y="3661920"/>
            <a:ext cx="996120" cy="516600"/>
          </a:xfrm>
          <a:prstGeom prst="bentConnector3">
            <a:avLst>
              <a:gd name="adj1" fmla="val 508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8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Extract birthmarks from target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68" name="Oval 4"/>
          <p:cNvSpPr/>
          <p:nvPr/>
        </p:nvSpPr>
        <p:spPr>
          <a:xfrm>
            <a:off x="4068720" y="5877000"/>
            <a:ext cx="14400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4788000" y="33577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``comparing round robin’’ button, then extracting birthmarks from targ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6"/>
          <p:cNvCxnSpPr>
            <a:stCxn id="269" idx="2"/>
            <a:endCxn id="268" idx="0"/>
          </p:cNvCxnSpPr>
          <p:nvPr/>
        </p:nvCxnSpPr>
        <p:spPr>
          <a:xfrm rot="5400000">
            <a:off x="4871160" y="4465440"/>
            <a:ext cx="1310400" cy="1475640"/>
          </a:xfrm>
          <a:prstGeom prst="bentConnector3">
            <a:avLst>
              <a:gd name="adj1" fmla="val 506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7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Comparison result of birthmarks</a:t>
            </a:r>
            <a:br>
              <a:rPr sz="3600"/>
            </a:b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(Round robin comparison)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Comparison result of birthmarks</a:t>
            </a:r>
            <a:br>
              <a:rPr sz="3600"/>
            </a:b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(Round robin comparison)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8920" y="3645000"/>
            <a:ext cx="38354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``Save’’ button, then file save dialog is shown.  You can save those result as csv and xml form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5"/>
          <p:cNvSpPr/>
          <p:nvPr/>
        </p:nvSpPr>
        <p:spPr>
          <a:xfrm>
            <a:off x="1403280" y="5661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AutoShape 6"/>
          <p:cNvCxnSpPr>
            <a:stCxn id="275" idx="2"/>
            <a:endCxn id="276" idx="0"/>
          </p:cNvCxnSpPr>
          <p:nvPr/>
        </p:nvCxnSpPr>
        <p:spPr>
          <a:xfrm rot="5400000">
            <a:off x="1397160" y="5033160"/>
            <a:ext cx="1072080" cy="146880"/>
          </a:xfrm>
          <a:prstGeom prst="bentConnector3">
            <a:avLst>
              <a:gd name="adj1" fmla="val 50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Extract birthmarks from target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8920" y="3645000"/>
            <a:ext cx="32590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ing some cell, then opening new tab to show details of comparison p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The result of comparison pair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Showing similarity distribution graph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3781440" y="5661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679840" y="4076640"/>
            <a:ext cx="31161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``Graph’’ button, then similarity distribution graph is shown in new 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AutoShape 7"/>
          <p:cNvCxnSpPr>
            <a:stCxn id="286" idx="2"/>
            <a:endCxn id="285" idx="0"/>
          </p:cNvCxnSpPr>
          <p:nvPr/>
        </p:nvCxnSpPr>
        <p:spPr>
          <a:xfrm flipH="1">
            <a:off x="4237920" y="5001840"/>
            <a:ext cx="1080" cy="64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7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42160" cy="45608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imilarity distribution graph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Launching Stigmata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448320" cy="4953240"/>
          </a:xfrm>
          <a:prstGeom prst="rect">
            <a:avLst/>
          </a:prstGeom>
          <a:ln w="0">
            <a:noFill/>
          </a:ln>
        </p:spPr>
      </p:pic>
      <p:sp>
        <p:nvSpPr>
          <p:cNvPr id="216" name="Oval 5"/>
          <p:cNvSpPr/>
          <p:nvPr/>
        </p:nvSpPr>
        <p:spPr>
          <a:xfrm>
            <a:off x="5148360" y="2637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754440" y="4508640"/>
            <a:ext cx="36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, then launch stig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7"/>
          <p:cNvCxnSpPr>
            <a:stCxn id="217" idx="0"/>
            <a:endCxn id="216" idx="4"/>
          </p:cNvCxnSpPr>
          <p:nvPr/>
        </p:nvCxnSpPr>
        <p:spPr>
          <a:xfrm flipH="1" flipV="1" rot="5400000">
            <a:off x="5133600" y="4036320"/>
            <a:ext cx="939240" cy="5400"/>
          </a:xfrm>
          <a:prstGeom prst="bentConnector3">
            <a:avLst>
              <a:gd name="adj1" fmla="val 509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howing mapping of classe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92" name="Oval 4"/>
          <p:cNvSpPr/>
          <p:nvPr/>
        </p:nvSpPr>
        <p:spPr>
          <a:xfrm>
            <a:off x="3800520" y="5661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2050920" y="3957480"/>
            <a:ext cx="4413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arrow button besides of ``Graph’’ button and popup menu is shown, select ``Distance Mapping’’ menu, then distance mapping is shown in new 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AutoShape 6"/>
          <p:cNvCxnSpPr>
            <a:stCxn id="293" idx="2"/>
            <a:endCxn id="292" idx="0"/>
          </p:cNvCxnSpPr>
          <p:nvPr/>
        </p:nvCxnSpPr>
        <p:spPr>
          <a:xfrm flipH="1">
            <a:off x="4257000" y="5157360"/>
            <a:ext cx="1080" cy="48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42160" cy="45622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Distance mapping graph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07240" cy="4538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howing mapping of classe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6083280" y="5661000"/>
            <a:ext cx="187344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2050920" y="4149720"/>
            <a:ext cx="46087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``Comparing guessed pair’’ button, showing the result of comparing birthmarks by same name pair from X and Y 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AutoShape 6"/>
          <p:cNvCxnSpPr>
            <a:stCxn id="300" idx="3"/>
            <a:endCxn id="299" idx="0"/>
          </p:cNvCxnSpPr>
          <p:nvPr/>
        </p:nvCxnSpPr>
        <p:spPr>
          <a:xfrm>
            <a:off x="6659280" y="4613040"/>
            <a:ext cx="361080" cy="1028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7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42160" cy="45622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howing mapping of classe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creenshot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Choose target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1835280" y="443700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619280" y="278136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his button, then file opening dialog i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6"/>
          <p:cNvCxnSpPr>
            <a:stCxn id="224" idx="2"/>
            <a:endCxn id="223" idx="0"/>
          </p:cNvCxnSpPr>
          <p:nvPr/>
        </p:nvCxnSpPr>
        <p:spPr>
          <a:xfrm rot="5400000">
            <a:off x="2135160" y="3853440"/>
            <a:ext cx="721440" cy="408600"/>
          </a:xfrm>
          <a:prstGeom prst="bentConnector3">
            <a:avLst>
              <a:gd name="adj1" fmla="val 510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1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Choose target jar file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2"/>
          <a:stretch/>
        </p:blipFill>
        <p:spPr>
          <a:xfrm>
            <a:off x="2195640" y="2421000"/>
            <a:ext cx="5000400" cy="3429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8"/>
          <p:cNvSpPr/>
          <p:nvPr/>
        </p:nvSpPr>
        <p:spPr>
          <a:xfrm>
            <a:off x="548280" y="5429160"/>
            <a:ext cx="3948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Jar file, and press open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5508720" y="515772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AutoShape 10"/>
          <p:cNvCxnSpPr>
            <a:stCxn id="229" idx="3"/>
            <a:endCxn id="230" idx="2"/>
          </p:cNvCxnSpPr>
          <p:nvPr/>
        </p:nvCxnSpPr>
        <p:spPr>
          <a:xfrm flipV="1">
            <a:off x="4505400" y="5614200"/>
            <a:ext cx="984960" cy="3960"/>
          </a:xfrm>
          <a:prstGeom prst="bentConnector3">
            <a:avLst>
              <a:gd name="adj1" fmla="val 50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9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Other choice method (D&amp;D)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4356000" y="3375000"/>
            <a:ext cx="4535640" cy="3483000"/>
          </a:xfrm>
          <a:prstGeom prst="rect">
            <a:avLst/>
          </a:prstGeom>
          <a:ln w="0">
            <a:noFill/>
          </a:ln>
        </p:spPr>
      </p:pic>
      <p:sp>
        <p:nvSpPr>
          <p:cNvPr id="235" name="Oval 6"/>
          <p:cNvSpPr/>
          <p:nvPr/>
        </p:nvSpPr>
        <p:spPr>
          <a:xfrm>
            <a:off x="5724360" y="350028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 rot="11411400">
            <a:off x="2550240" y="1568520"/>
            <a:ext cx="3884760" cy="1727280"/>
          </a:xfrm>
          <a:custGeom>
            <a:avLst/>
            <a:gdLst>
              <a:gd name="textAreaLeft" fmla="*/ 895680 w 3884760"/>
              <a:gd name="textAreaRight" fmla="*/ 2814480 w 3884760"/>
              <a:gd name="textAreaTop" fmla="*/ 231120 h 1727280"/>
              <a:gd name="textAreaBottom" fmla="*/ 149616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60" hR="21600" stAng="10800000" swAng="-5400000"/>
                <a:lnTo>
                  <a:pt x="10669" y="21600"/>
                </a:lnTo>
                <a:arcTo wR="9960" hR="21600" stAng="5400000" swAng="-4063791"/>
                <a:lnTo>
                  <a:pt x="21427" y="4008"/>
                </a:lnTo>
                <a:lnTo>
                  <a:pt x="20275" y="0"/>
                </a:lnTo>
                <a:lnTo>
                  <a:pt x="18776" y="4008"/>
                </a:lnTo>
                <a:lnTo>
                  <a:pt x="19747" y="4008"/>
                </a:lnTo>
                <a:arcTo wR="9960" hR="21600" stAng="1336209" swAng="4007340"/>
                <a:lnTo>
                  <a:pt x="10314" y="21586"/>
                </a:lnTo>
                <a:arcTo wR="9960" hR="21600" stAng="5456451" swAng="5343549"/>
                <a:close/>
              </a:path>
              <a:path fill="darkenLess" w="21600" h="21600">
                <a:moveTo>
                  <a:pt x="0" y="0"/>
                </a:moveTo>
                <a:arcTo wR="9960" hR="21600" stAng="10800000" swAng="-5400000"/>
                <a:lnTo>
                  <a:pt x="10669" y="21600"/>
                </a:lnTo>
                <a:arcTo wR="9960" hR="21600" stAng="5400000" swAng="56451"/>
                <a:lnTo>
                  <a:pt x="10314" y="21586"/>
                </a:lnTo>
                <a:arcTo wR="9960" hR="21600" stAng="5456451" swAng="534354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6156360" y="1557360"/>
            <a:ext cx="2792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jar file and drop it into target list component, then the jar file was chosen as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elect extracted birthmark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0" name="Oval 8"/>
          <p:cNvSpPr/>
          <p:nvPr/>
        </p:nvSpPr>
        <p:spPr>
          <a:xfrm>
            <a:off x="1116000" y="4797360"/>
            <a:ext cx="6840720" cy="113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622160" y="335772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extracted birth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AutoShape 10"/>
          <p:cNvCxnSpPr>
            <a:stCxn id="241" idx="2"/>
            <a:endCxn id="240" idx="0"/>
          </p:cNvCxnSpPr>
          <p:nvPr/>
        </p:nvCxnSpPr>
        <p:spPr>
          <a:xfrm flipH="1" rot="16200000">
            <a:off x="3289320" y="3530160"/>
            <a:ext cx="1054800" cy="1442160"/>
          </a:xfrm>
          <a:prstGeom prst="bentConnector3">
            <a:avLst>
              <a:gd name="adj1" fmla="val 507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0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Select extraction unit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5" name="Oval 7"/>
          <p:cNvSpPr/>
          <p:nvPr/>
        </p:nvSpPr>
        <p:spPr>
          <a:xfrm>
            <a:off x="5651640" y="5805360"/>
            <a:ext cx="216036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4859280" y="2852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extraction unit.  Default is extracting from each class file.  Other unit is extracting from package, and jar file (produ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AutoShape 9"/>
          <p:cNvCxnSpPr>
            <a:stCxn id="246" idx="2"/>
            <a:endCxn id="245" idx="0"/>
          </p:cNvCxnSpPr>
          <p:nvPr/>
        </p:nvCxnSpPr>
        <p:spPr>
          <a:xfrm flipH="1" rot="16200000">
            <a:off x="5817240" y="4871520"/>
            <a:ext cx="1469160" cy="361080"/>
          </a:xfrm>
          <a:prstGeom prst="bentConnector3">
            <a:avLst>
              <a:gd name="adj1" fmla="val 505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7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69080" cy="45115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rial"/>
              </a:rPr>
              <a:t>Extract birthmarks from targets</a:t>
            </a:r>
            <a:endParaRPr b="0" lang="en-US" sz="4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50" name="Oval 4"/>
          <p:cNvSpPr/>
          <p:nvPr/>
        </p:nvSpPr>
        <p:spPr>
          <a:xfrm>
            <a:off x="2700360" y="5877000"/>
            <a:ext cx="11509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476360" y="359244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``extract’’ button, then extracting birthmarks from targ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AutoShape 6"/>
          <p:cNvCxnSpPr>
            <a:stCxn id="251" idx="2"/>
            <a:endCxn id="250" idx="0"/>
          </p:cNvCxnSpPr>
          <p:nvPr/>
        </p:nvCxnSpPr>
        <p:spPr>
          <a:xfrm flipH="1" rot="16200000">
            <a:off x="2458440" y="5039280"/>
            <a:ext cx="1350000" cy="288000"/>
          </a:xfrm>
          <a:prstGeom prst="bentConnector3">
            <a:avLst>
              <a:gd name="adj1" fmla="val 505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7T04:39:47Z</dcterms:created>
  <dc:creator>玉田 春昭</dc:creator>
  <dc:description/>
  <dc:language>en-US</dc:language>
  <cp:lastModifiedBy> </cp:lastModifiedBy>
  <dcterms:modified xsi:type="dcterms:W3CDTF">2008-05-15T04:37:14Z</dcterms:modified>
  <cp:revision>4</cp:revision>
  <dc:subject/>
  <dc:title>Tutorial of Stigmata</dc:title>
</cp:coreProperties>
</file>