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A893-1FEA-427C-9217-0D9ED4B50B6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1B15-F052-4B20-874E-F01066C5455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7-15T10:28:44Z</dcterms:modified>
  <cp:revision>53</cp:revision>
  <dc:subject/>
  <dc:title>スライド 1</dc:title>
</cp:coreProperties>
</file>