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947275" cy="6815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BB0F-81B6-4DC5-A9D1-C3EC09A06A5C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94BA-3D56-4DCF-AD75-6E29E7020647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ibernate.org/" TargetMode="External"/><Relationship Id="rId2" Type="http://schemas.openxmlformats.org/officeDocument/2006/relationships/hyperlink" Target="http://www.atmarkit.co.jp/fjava/rensai3/ormap01/ormap01.html" TargetMode="External"/><Relationship Id="rId3" Type="http://schemas.openxmlformats.org/officeDocument/2006/relationships/hyperlink" Target="http://www.wikiroom.com/koichik/?Hibernate%20%C6%FE%CC&#32109;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小林浩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koich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フェッチを先延ばし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取得するデータを最小限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不要な結合を避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転送するデータ量を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無駄なインスタンス化を避け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リ使用量の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の活用を促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多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レクション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アクセスしたときにフェッチ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2708280"/>
            <a:ext cx="2160720" cy="180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3608280"/>
            <a:ext cx="1800360" cy="9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レ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1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050920" y="4508640"/>
            <a:ext cx="1441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492360" y="450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492360" y="4508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430200" y="2529000"/>
            <a:ext cx="1441440" cy="1800000"/>
          </a:xfrm>
          <a:prstGeom prst="wedgeEllipseCallout">
            <a:avLst>
              <a:gd name="adj1" fmla="val -45925"/>
              <a:gd name="adj2" fmla="val 80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レクション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32360" y="5049720"/>
            <a:ext cx="719280" cy="1081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5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9272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5049720"/>
            <a:ext cx="4319640" cy="10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制約が多いので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わ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多重度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..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場合のみ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ェッチでき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う場合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32720" y="1808280"/>
            <a:ext cx="2160360" cy="28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1280" y="1808280"/>
            <a:ext cx="2160720" cy="54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2708280"/>
            <a:ext cx="2160720" cy="198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234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92360" y="3789360"/>
            <a:ext cx="180036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430200" y="2349720"/>
            <a:ext cx="1441440" cy="1800000"/>
          </a:xfrm>
          <a:prstGeom prst="wedgeEllipseCallout">
            <a:avLst>
              <a:gd name="adj1" fmla="val -63217"/>
              <a:gd name="adj2" fmla="val 80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オブジェクト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92720" y="3608280"/>
            <a:ext cx="2158920" cy="1081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に重大な影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2708280"/>
            <a:ext cx="1800000" cy="360036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600360"/>
              <a:gd name="textAreaBottom" fmla="*/ 3512520 h 360036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360828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11640" y="486900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4304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11640" y="324972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411280" y="36079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396864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378936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540864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41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数の関連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N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ッチサイ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+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32720" y="2708280"/>
            <a:ext cx="2160360" cy="378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1640" y="2708280"/>
            <a:ext cx="1800000" cy="378000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780000"/>
              <a:gd name="textAreaBottom" fmla="*/ 3692160 h 3780000"/>
            </a:gdLst>
            <a:ahLst/>
            <a:rect l="textAreaLeft" t="textAreaTop" r="textAreaRight" b="textAreaBottom"/>
            <a:pathLst>
              <a:path w="21600" h="45355">
                <a:moveTo>
                  <a:pt x="3600" y="0"/>
                </a:moveTo>
                <a:arcTo wR="3600" hR="3600" stAng="16200000" swAng="-5400000"/>
                <a:lnTo>
                  <a:pt x="0" y="41755"/>
                </a:lnTo>
                <a:arcTo wR="3600" hR="3600" stAng="10800000" swAng="-5400000"/>
                <a:lnTo>
                  <a:pt x="18000" y="45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324972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34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11640" y="3249720"/>
            <a:ext cx="1081080" cy="17985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798560"/>
              <a:gd name="textAreaBottom" fmla="*/ 1746000 h 1798560"/>
            </a:gdLst>
            <a:ahLst/>
            <a:rect l="textAreaLeft" t="textAreaTop" r="textAreaRight" b="textAreaBottom"/>
            <a:pathLst>
              <a:path w="21600" h="35930">
                <a:moveTo>
                  <a:pt x="3600" y="0"/>
                </a:moveTo>
                <a:arcTo wR="3600" hR="3600" stAng="16200000" swAng="-5400000"/>
                <a:lnTo>
                  <a:pt x="0" y="32330"/>
                </a:lnTo>
                <a:arcTo wR="3600" hR="3600" stAng="10800000" swAng="-5400000"/>
                <a:lnTo>
                  <a:pt x="18000" y="359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608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3608280"/>
            <a:ext cx="10810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46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37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2000" y="432900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2360" y="396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45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411280" y="5587560"/>
            <a:ext cx="108108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576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540864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360" y="54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595008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51280" y="4148280"/>
            <a:ext cx="18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ッチサイズが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br>
              <a:rPr sz="18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※実際にはバッチサイズ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うまく動作し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11640" y="5229360"/>
            <a:ext cx="1081080" cy="125892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258920"/>
              <a:gd name="textAreaBottom" fmla="*/ 1206360 h 1258920"/>
            </a:gdLst>
            <a:ahLst/>
            <a:rect l="textAreaLeft" t="textAreaTop" r="textAreaRight" b="textAreaBottom"/>
            <a:pathLst>
              <a:path w="21600" h="25152">
                <a:moveTo>
                  <a:pt x="3600" y="0"/>
                </a:moveTo>
                <a:arcTo wR="3600" hR="3600" stAng="16200000" swAng="-5400000"/>
                <a:lnTo>
                  <a:pt x="0" y="21552"/>
                </a:lnTo>
                <a:arcTo wR="3600" hR="3600" stAng="10800000" swAng="-5400000"/>
                <a:lnTo>
                  <a:pt x="18000" y="25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55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元と関連先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回数を低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結合を使った問い合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32720" y="3429000"/>
            <a:ext cx="216036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3429000"/>
            <a:ext cx="3600360" cy="28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78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36115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411280" y="378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414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51280" y="468936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43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い合わせ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と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D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主キー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るロード時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load/g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のナビゲート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多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1808280"/>
            <a:ext cx="720072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 name="..."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constrained="true" 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92360" y="360828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92360" y="540864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をいくつま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深すぎると無駄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.max_fetch_dep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パティで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の数ではな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対多関連の関連テーブルは数え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1164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2321280" y="2078640"/>
            <a:ext cx="179280" cy="3600360"/>
          </a:xfrm>
          <a:custGeom>
            <a:avLst/>
            <a:gdLst>
              <a:gd name="textAreaLeft" fmla="*/ 0 w 179280"/>
              <a:gd name="textAreaRight" fmla="*/ 64800 w 17928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39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3401640" y="1898280"/>
            <a:ext cx="179640" cy="5761080"/>
          </a:xfrm>
          <a:custGeom>
            <a:avLst/>
            <a:gdLst>
              <a:gd name="textAreaLeft" fmla="*/ 0 w 179640"/>
              <a:gd name="textAreaRight" fmla="*/ 64800 w 17964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4869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7164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3236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930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#setFetchMode(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指定がないとマッピングファイルに従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Criteria(Order.class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setFetchMode("item", FetchMode.EAGER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明示的に結合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マッピングファイルの指定を無視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暗黙的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されていない関連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に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Query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"from Order o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eft outer join fe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o.item"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基本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では原則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不要な問い合せを避けるた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必要に応じ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い合わせで明示的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神経質になりすぎ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を測定して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ある程度お任せしてこそ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甲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レームワー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を簡単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ープン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ライセンス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G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avin Kin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氏が中心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32720" y="1268280"/>
            <a:ext cx="2160360" cy="288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268280"/>
            <a:ext cx="2160360" cy="28814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81440"/>
              <a:gd name="textAreaBottom" fmla="*/ 2776320 h 2881440"/>
            </a:gdLst>
            <a:ahLst/>
            <a:rect l="textAreaLeft" t="textAreaTop" r="textAreaRight" b="textAreaBottom"/>
            <a:pathLst>
              <a:path w="21600" h="28808">
                <a:moveTo>
                  <a:pt x="3600" y="0"/>
                </a:moveTo>
                <a:arcTo wR="3600" hR="3600" stAng="16200000" swAng="-5400000"/>
                <a:lnTo>
                  <a:pt x="0" y="25208"/>
                </a:lnTo>
                <a:arcTo wR="3600" hR="3600" stAng="10800000" swAng="-5400000"/>
                <a:lnTo>
                  <a:pt x="18000" y="288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永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1268280"/>
            <a:ext cx="2880000" cy="2881440"/>
          </a:xfrm>
          <a:custGeom>
            <a:avLst/>
            <a:gdLst>
              <a:gd name="textAreaLeft" fmla="*/ 140400 w 2880000"/>
              <a:gd name="textAreaRight" fmla="*/ 2739600 w 2880000"/>
              <a:gd name="textAreaTop" fmla="*/ 140400 h 2881440"/>
              <a:gd name="textAreaBottom" fmla="*/ 2741040 h 288144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99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4869000"/>
            <a:ext cx="2880000" cy="14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マッピン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414972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4149720"/>
            <a:ext cx="2520720" cy="1440000"/>
          </a:xfrm>
          <a:custGeom>
            <a:avLst/>
            <a:gdLst>
              <a:gd name="textAreaLeft" fmla="*/ 723600 w 2520720"/>
              <a:gd name="textAreaRight" fmla="*/ 2158920 w 2520720"/>
              <a:gd name="textAreaTop" fmla="*/ 829440 h 1440000"/>
              <a:gd name="textAreaBottom" fmla="*/ 12333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151640" y="3609360"/>
            <a:ext cx="1440000" cy="2520720"/>
          </a:xfrm>
          <a:custGeom>
            <a:avLst/>
            <a:gdLst>
              <a:gd name="textAreaLeft" fmla="*/ 413280 w 1440000"/>
              <a:gd name="textAreaRight" fmla="*/ 1233360 w 1440000"/>
              <a:gd name="textAreaTop" fmla="*/ 1451880 h 2520720"/>
              <a:gd name="textAreaBottom" fmla="*/ 21589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589720"/>
            <a:ext cx="23400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Doc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5589720"/>
            <a:ext cx="21603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idd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d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72360" y="3068640"/>
            <a:ext cx="108108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72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9308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72360" y="32479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72360" y="34275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2708280"/>
            <a:ext cx="72072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92000" y="3068280"/>
            <a:ext cx="54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331640" y="3068280"/>
            <a:ext cx="539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640" y="3429000"/>
            <a:ext cx="71928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11280" y="3429000"/>
            <a:ext cx="72072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柔軟な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多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・多対多，単方向・双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関連はコレクション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配列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ag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表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継承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強力な問い合せ言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HQ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結合が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集計関数も使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書籍・雑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n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 in 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技術評論社「オープンソース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ダクツ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翔泳社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ガジン」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公式サイ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ファレンスの日本語訳あり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ibernate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@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簡単なプログラム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tmarkit.co.jp/fjava/rensai3/ormap01/ormap01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入門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wikiroom.com/koichik/?Hibernate%20%C6%FE%CC%E7%B5%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永続オブジェクト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ードす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文が発行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がインスタンス化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51640" y="3429000"/>
            <a:ext cx="144144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51280" y="3429000"/>
            <a:ext cx="2701800" cy="2879640"/>
          </a:xfrm>
          <a:custGeom>
            <a:avLst/>
            <a:gdLst>
              <a:gd name="textAreaLeft" fmla="*/ 131760 w 2701800"/>
              <a:gd name="textAreaRight" fmla="*/ 2570040 w 2701800"/>
              <a:gd name="textAreaTop" fmla="*/ 131760 h 2879640"/>
              <a:gd name="textAreaBottom" fmla="*/ 2747880 h 2879640"/>
            </a:gdLst>
            <a:ahLst/>
            <a:rect l="textAreaLeft" t="textAreaTop" r="textAreaRight" b="textAreaBottom"/>
            <a:pathLst>
              <a:path w="21600" h="23022">
                <a:moveTo>
                  <a:pt x="3600" y="0"/>
                </a:moveTo>
                <a:arcTo wR="3600" hR="3600" stAng="16200000" swAng="-5400000"/>
                <a:lnTo>
                  <a:pt x="0" y="19422"/>
                </a:lnTo>
                <a:arcTo wR="3600" hR="3600" stAng="10800000" swAng="-5400000"/>
                <a:lnTo>
                  <a:pt x="18000" y="230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11640" y="5589720"/>
            <a:ext cx="1981080" cy="5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32360" y="3968640"/>
            <a:ext cx="1440000" cy="360360"/>
          </a:xfrm>
          <a:prstGeom prst="rightArrow">
            <a:avLst>
              <a:gd name="adj1" fmla="val 50000"/>
              <a:gd name="adj2" fmla="val 99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3608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72000" y="450864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4870440"/>
            <a:ext cx="1081080" cy="5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50497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2293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32360" y="5408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結果セッ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11640" y="4329000"/>
            <a:ext cx="1981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スタンス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5049720"/>
            <a:ext cx="900000" cy="540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50864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31640" y="4868640"/>
            <a:ext cx="90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332000" y="4868640"/>
            <a:ext cx="90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33200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71640" y="4508640"/>
            <a:ext cx="1260360" cy="360360"/>
          </a:xfrm>
          <a:prstGeom prst="leftArrow">
            <a:avLst>
              <a:gd name="adj1" fmla="val 50000"/>
              <a:gd name="adj2" fmla="val 874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28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は後で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バリエ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いくつかを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も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小林浩一</cp:lastModifiedBy>
  <dcterms:modified xsi:type="dcterms:W3CDTF">2004-11-16T17:10:25Z</dcterms:modified>
  <cp:revision>62</cp:revision>
  <dc:subject/>
  <dc:title>スライド 1</dc:title>
</cp:coreProperties>
</file>