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EEDC9-AFB3-43D8-8DB4-88E6FC0B9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B81A-7AA6-4689-9FB6-8DCBA03A3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35ECB-8219-4C1F-AE4D-E9ADFC21D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C10A3-7325-442C-AD82-5853F7BAD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3B32-8FE5-4431-8505-E071FAA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72E-3DA2-40A0-9F00-79C1DC22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2D91-709E-40F6-BB81-0A9C10188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3842-1310-4DDD-88CC-3ADFE5B8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7E83-B513-45DE-8524-AEAD04BAD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A9C1-1BDA-475D-83E8-D2B381B8E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B07BC-41AC-4E08-8EDF-F640D43A6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A2E7-4048-4928-B675-2B9F75EE9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游ゴシック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游ゴシック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游ゴシック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4FE0-B06C-43B3-82A8-341D507672F1}" type="slidenum">
              <a:rPr b="0" lang="ja-JP" sz="1200" spc="-1" strike="noStrike">
                <a:solidFill>
                  <a:srgbClr val="898989"/>
                </a:solidFill>
                <a:latin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游ゴシック Light"/>
              </a:rPr>
              <a:t>test</a:t>
            </a:r>
            <a:endParaRPr b="0" lang="en-US" sz="6000" spc="-1" strike="noStrike">
              <a:solidFill>
                <a:srgbClr val="000000"/>
              </a:solidFill>
              <a:latin typeface="游ゴシック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游ゴシック"/>
              </a:rPr>
              <a:t>Test test</a:t>
            </a:r>
            <a:endParaRPr b="0" lang="en-US" sz="2400" spc="-1" strike="noStrike">
              <a:solidFill>
                <a:srgbClr val="000000"/>
              </a:solidFill>
              <a:latin typeface="游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24T11:10:28Z</dcterms:created>
  <dc:creator/>
  <dc:description/>
  <dc:language>en-US</dc:language>
  <cp:lastModifiedBy/>
  <dcterms:modified xsi:type="dcterms:W3CDTF">2021-10-24T11:10:41Z</dcterms:modified>
  <cp:revision>1</cp:revision>
  <dc:subject/>
  <dc:title/>
</cp:coreProperties>
</file>